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F23-1044-4686-9B96-B9109258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FF3-D4C7-4237-B7D7-DF08BBFE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DA1-1DD5-4D0B-A903-60D6A8BF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A17-9C6A-45A5-B213-01EB9FD7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D0FD-C1CB-4AB4-8F71-6005BB80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B0F1-EB53-4F0E-B3E0-FB4EA330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4A3-461C-4E86-AA9C-665F2C5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B0B-1D84-4184-BA0A-E5D82AF1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0B6C-08D3-48E8-B626-5E3862BD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D2F1-1C11-4577-95ED-0643FF45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3CC-6472-46DA-8694-45501FD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906-26A1-4BEE-96D1-D5A229A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3E4-D83B-4500-AD38-95A16EA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658-784B-423C-BC92-21834AF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A31A-E49E-4C8A-94F7-3A6F63D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AB0E-44DC-4B7A-A137-33974042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38B7-CB41-417D-B74F-1FFD5728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6B8-50F8-4F4C-BCA3-650CD49C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27A-F77E-4ABE-9726-6CCA0F5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D64-1DCA-4FEE-B844-D04A74D9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586-2BFD-47DB-B313-3C6EF01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E11-7031-4346-9DCE-12EE247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027-BD5B-4A88-AA68-9244C89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E21-3B6B-4C8F-BF73-3CBEB8C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B94-8AFB-4F6D-BC69-29CE82915D6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7DC-77B3-40D4-9925-7C6369B2696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9999"/>
                </a:solidFill>
                <a:latin typeface="Arial"/>
                <a:ea typeface="文鼎粗黑"/>
              </a:rPr>
              <a:t>資訊科十年級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7e9ce8"/>
                </a:solidFill>
                <a:latin typeface="Arial"/>
                <a:ea typeface="文鼎粗圓"/>
              </a:rPr>
              <a:t>編程基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編程語言、編譯器及解譯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 (VB)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語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其中一種高級語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Microsof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公司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9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年代開發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以圖像介面操作，便於製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程式的外貌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寫程式時，程式的效果必須人手編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一個典型的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程式檔案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518148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製作介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利用</a:t>
            </a:r>
            <a:r>
              <a:rPr b="0" lang="zh-TW" sz="26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工具箱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的控制項製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製作效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次使用按鈕後程式的反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562720" y="3276720"/>
            <a:ext cx="2857320" cy="22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172000" y="5334120"/>
            <a:ext cx="4550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介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的工具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6172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提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軟件中經常使用的組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控制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常用的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Butt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按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Label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標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Text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輸入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輸出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用以顯示圖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2028960" cy="32097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7851960" y="4952880"/>
            <a:ext cx="4093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工具箱的一部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組件屬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305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類別的組件均有其獨有的屬性，調整後組件的外觀、大小亦會相應改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個組件必須有一個獨有的名稱，以供電腦識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2209680" cy="17463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21956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2057400" y="4800600"/>
            <a:ext cx="2590920" cy="7632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460800">
            <a:off x="3277800" y="4343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標籤的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46400" y="31240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名稱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Labe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352680"/>
            <a:ext cx="106668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3809880"/>
            <a:ext cx="1143000" cy="2362320"/>
          </a:xfrm>
          <a:prstGeom prst="ellipse">
            <a:avLst/>
          </a:prstGeom>
          <a:noFill/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6019920"/>
            <a:ext cx="3657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56400" indent="-3564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屬性被改為「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我的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	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一個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Visual Basic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程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組件的名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電腦會自動為你所製作的組件定名，格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類別名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+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號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如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utton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utto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TextBox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TextBox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為便於分辨，電腦亦容許編程人員自行訂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開始！ 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1 –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介面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6172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提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軟件中經常使用的組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控制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常用的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Butt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按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Label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標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Text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輸入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輸出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用以顯示圖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51960" y="4952880"/>
            <a:ext cx="4093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工具箱的一部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28573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介面大解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809880" cy="30081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33720" y="3276720"/>
            <a:ext cx="799920" cy="36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7480" y="2590920"/>
            <a:ext cx="171828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Labe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這是…程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4495680"/>
            <a:ext cx="76176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6560" y="4191120"/>
            <a:ext cx="18216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你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019920" y="3048120"/>
            <a:ext cx="8380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77000" y="2438280"/>
            <a:ext cx="200016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Bo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空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715000" y="4495680"/>
            <a:ext cx="129528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25080" y="4114800"/>
            <a:ext cx="18216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再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開始！ 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2 –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效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10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分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Double-click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Button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及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Button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組件，並輸入以下項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Public Class For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Private Sub Button1_Click(</a:t>
            </a:r>
            <a:r>
              <a:rPr b="0" lang="zh-TW" sz="1800" spc="-1" strike="noStrike">
                <a:solidFill>
                  <a:srgbClr val="7e9ce8"/>
                </a:solidFill>
                <a:latin typeface="Arial"/>
              </a:rPr>
              <a:t>……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) Handles Button1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Label1.Text = "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你好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!  " &amp; TextBox1.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Private Sub Button2_Click(</a:t>
            </a:r>
            <a:r>
              <a:rPr b="0" lang="zh-TW" sz="1800" spc="-1" strike="noStrike">
                <a:solidFill>
                  <a:srgbClr val="7e9ce8"/>
                </a:solidFill>
                <a:latin typeface="Arial"/>
              </a:rPr>
              <a:t>……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) Handles Button2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Label1.Text = "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再見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!  " &amp; TextBox1.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語法大解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Label1.Text = "</a:t>
            </a: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你好</a:t>
            </a: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!  " &amp; TextBox1.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Label1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視窗內的標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Label1.Text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Label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T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屬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“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你好！”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要顯示的文字，必須以 “ ”包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TextBox1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視窗上的文字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TextBox1.Text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文字框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T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屬性，亦即文字框內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最後步驟：</a:t>
            </a:r>
            <a:r>
              <a:rPr b="0" lang="zh-TW" sz="3900" spc="-1" strike="noStrike">
                <a:solidFill>
                  <a:srgbClr val="ff0000"/>
                </a:solidFill>
                <a:latin typeface="Arial"/>
                <a:ea typeface="文鼎粗黑"/>
              </a:rPr>
              <a:t>建置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3686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79" name=""/>
          <p:cNvSpPr/>
          <p:nvPr/>
        </p:nvSpPr>
        <p:spPr>
          <a:xfrm>
            <a:off x="5105520" y="2362320"/>
            <a:ext cx="838080" cy="6094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36720" y="5867280"/>
            <a:ext cx="73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建置後請到：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新中黑"/>
              </a:rPr>
              <a:t>U:\Visual Studio 2008\Projects\FirstTest\FirstTest\bin\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找回名為 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新中黑"/>
              </a:rPr>
              <a:t>FirstText.ex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的執行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上一課題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儲存工具：磁碟、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USB 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電子郵件 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(E-mai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絕對路徑：表示檔案於磁碟上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G:\abc\xyz\123\homework.d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581280"/>
            <a:ext cx="1067040" cy="9907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8160" y="4267080"/>
            <a:ext cx="274320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267080"/>
            <a:ext cx="228600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4267080"/>
            <a:ext cx="83808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27000" y="4572000"/>
            <a:ext cx="866520" cy="1279440"/>
            <a:chOff x="927000" y="4572000"/>
            <a:chExt cx="866520" cy="1279440"/>
          </a:xfrm>
        </p:grpSpPr>
        <p:sp>
          <p:nvSpPr>
            <p:cNvPr id="159" name=""/>
            <p:cNvSpPr/>
            <p:nvPr/>
          </p:nvSpPr>
          <p:spPr>
            <a:xfrm>
              <a:off x="1371600" y="4572000"/>
              <a:ext cx="0" cy="9144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7000" y="5483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磁碟機代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68680" y="4343400"/>
            <a:ext cx="866520" cy="1206360"/>
            <a:chOff x="2668680" y="4343400"/>
            <a:chExt cx="866520" cy="1206360"/>
          </a:xfrm>
        </p:grpSpPr>
        <p:sp>
          <p:nvSpPr>
            <p:cNvPr id="162" name=""/>
            <p:cNvSpPr/>
            <p:nvPr/>
          </p:nvSpPr>
          <p:spPr>
            <a:xfrm>
              <a:off x="2668680" y="5181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資料夾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4080" y="4343400"/>
              <a:ext cx="0" cy="8380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72720" y="4343400"/>
            <a:ext cx="592200" cy="1282680"/>
            <a:chOff x="5472720" y="4343400"/>
            <a:chExt cx="592200" cy="1282680"/>
          </a:xfrm>
        </p:grpSpPr>
        <p:sp>
          <p:nvSpPr>
            <p:cNvPr id="165" name=""/>
            <p:cNvSpPr/>
            <p:nvPr/>
          </p:nvSpPr>
          <p:spPr>
            <a:xfrm>
              <a:off x="547272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91320" y="434340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25560" y="4343400"/>
            <a:ext cx="592200" cy="1282680"/>
            <a:chOff x="7225560" y="4343400"/>
            <a:chExt cx="592200" cy="1282680"/>
          </a:xfrm>
        </p:grpSpPr>
        <p:sp>
          <p:nvSpPr>
            <p:cNvPr id="168" name=""/>
            <p:cNvSpPr/>
            <p:nvPr/>
          </p:nvSpPr>
          <p:spPr>
            <a:xfrm>
              <a:off x="722556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43800" y="434340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總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程基本概念：指令、語法、步驟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高級語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程的兩大步驟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製作介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製作效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完成編程後，透過</a:t>
            </a:r>
            <a:r>
              <a:rPr b="0" lang="zh-TW" sz="30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建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把程式打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如何在程式內加入一副圖片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組件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組件屬性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mag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mage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命令電腦作甚麼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8610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數學計算：計算收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儲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搜尋資料：網頁搜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處理資料：圖像處理、分析數據、音效合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娛樂：電腦遊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溝通工具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CQ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E-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翻譯工具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abelF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只要你知道所需要的指令及語法</a:t>
            </a:r>
            <a:r>
              <a:rPr b="0" lang="zh-TW" sz="3000" spc="-1" strike="noStrike">
                <a:solidFill>
                  <a:srgbClr val="ff6600"/>
                </a:solidFill>
                <a:latin typeface="Arial"/>
                <a:ea typeface="文鼎粗圓"/>
              </a:rPr>
              <a:t>編寫程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，你同樣能令電腦達成以上各項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甚麼是編程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7848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透過 </a:t>
            </a:r>
            <a:r>
              <a:rPr b="0" lang="zh-TW" sz="3000" spc="-1" strike="noStrike" u="sng">
                <a:solidFill>
                  <a:srgbClr val="ff6600"/>
                </a:solidFill>
                <a:uFillTx/>
                <a:latin typeface="Arial"/>
                <a:ea typeface="文鼎粗圓"/>
              </a:rPr>
              <a:t>電腦明白的文字</a:t>
            </a:r>
            <a:r>
              <a:rPr b="0" lang="zh-TW" sz="3000" spc="-1" strike="noStrike">
                <a:solidFill>
                  <a:srgbClr val="ff6600"/>
                </a:solidFill>
                <a:latin typeface="Arial"/>
                <a:ea typeface="文鼎粗圓"/>
              </a:rPr>
              <a:t> 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指令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輯成檔案，命令電腦按所需的要求完成目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然而電腦明白的文字，只屬人類使用文字的一小部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電腦接收到這些指令組成的檔案後，便會按次序逐一執行每一個指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4343400"/>
            <a:ext cx="2895480" cy="2209680"/>
          </a:xfrm>
          <a:prstGeom prst="ellipse">
            <a:avLst/>
          </a:prstGeom>
          <a:solidFill>
            <a:srgbClr val="d8d8ec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4800600"/>
            <a:ext cx="685800" cy="6094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560" y="541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人類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257800" y="5181120"/>
            <a:ext cx="13716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08040" y="6019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電腦明白的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不同的電腦語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4582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不同的電腦語言使用不同的語法及指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現時流行的電腦語言不下數百種，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PHP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C++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Java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C#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Pasca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Basic…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太多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38080" y="3200400"/>
            <a:ext cx="8639640" cy="5715000"/>
            <a:chOff x="2638080" y="3200400"/>
            <a:chExt cx="8639640" cy="5715000"/>
          </a:xfrm>
        </p:grpSpPr>
        <p:sp>
          <p:nvSpPr>
            <p:cNvPr id="185" name=""/>
            <p:cNvSpPr/>
            <p:nvPr/>
          </p:nvSpPr>
          <p:spPr>
            <a:xfrm>
              <a:off x="4648320" y="3200400"/>
              <a:ext cx="6629400" cy="5715000"/>
            </a:xfrm>
            <a:prstGeom prst="ellipse">
              <a:avLst/>
            </a:prstGeom>
            <a:solidFill>
              <a:srgbClr val="d8d8ec"/>
            </a:solidFill>
            <a:ln w="7632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4267080"/>
              <a:ext cx="2819520" cy="2438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45600" y="3429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圓"/>
                </a:rPr>
                <a:t>人類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62520" y="5562360"/>
              <a:ext cx="1904760" cy="546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38080" y="5943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圓"/>
                </a:rPr>
                <a:t>各種電腦語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4648320"/>
              <a:ext cx="6098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120" y="4800600"/>
              <a:ext cx="5331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5257800"/>
              <a:ext cx="9144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24680" y="5562720"/>
              <a:ext cx="53352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H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5867280"/>
              <a:ext cx="9144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還有很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電腦語言的分類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機器語言：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00100110”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直接對硬件操作，是電腦言運作時使用的語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匯編語言：以英文縮寫的標識符號取代 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0” 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和 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1”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以便記憶；與機器語言相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高級語言 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(Python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Java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C++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Bas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將許多相關的機器指令合成為單條指令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文鼎粗圓"/>
              </a:rPr>
              <a:t>並且去掉了與具體操作有關但與完成工作無關的細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有別於以上兩種語言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文鼎粗圓"/>
                <a:ea typeface="文鼎粗圓"/>
              </a:rPr>
              <a:t>電腦不明白高級語言的指令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必須經過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文鼎粗圓"/>
                <a:ea typeface="文鼎粗圓"/>
              </a:rPr>
              <a:t>特別處理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電腦才能執行高級語言編寫的程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特別處理的方法有：</a:t>
            </a:r>
            <a:r>
              <a:rPr b="0" i="1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編譯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 或 </a:t>
            </a:r>
            <a:r>
              <a:rPr b="0" i="1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解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如何令電腦明白「高級語言」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要電腦明白「高級語言」，電腦需要一個「翻譯員」，把高級語言翻譯為它能明白的機器語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在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這個過程稱為「</a:t>
            </a:r>
            <a:r>
              <a:rPr b="0" lang="zh-TW" sz="3000" spc="-1" strike="noStrike">
                <a:solidFill>
                  <a:srgbClr val="ff0000"/>
                </a:solidFill>
                <a:latin typeface="文鼎粗圓"/>
                <a:ea typeface="文鼎粗圓"/>
              </a:rPr>
              <a:t>建置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譯器 </a:t>
            </a:r>
            <a:r>
              <a:rPr b="0" lang="zh-TW" sz="3900" spc="-1" strike="noStrike">
                <a:solidFill>
                  <a:srgbClr val="000000"/>
                </a:solidFill>
                <a:latin typeface="Arial"/>
                <a:ea typeface="文鼎粗黑"/>
              </a:rPr>
              <a:t>─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 </a:t>
            </a:r>
            <a:r>
              <a:rPr b="0" lang="zh-TW" sz="3900" spc="-1" strike="noStrike">
                <a:solidFill>
                  <a:srgbClr val="7e9ce8"/>
                </a:solidFill>
                <a:latin typeface="Arial"/>
                <a:ea typeface="文鼎粗黑"/>
              </a:rPr>
              <a:t>文字翻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7160" y="2057400"/>
            <a:ext cx="1278000" cy="6426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寫畢文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55520" y="2057400"/>
            <a:ext cx="1826640" cy="6426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經翻譯員翻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91080" y="1905120"/>
            <a:ext cx="1003680" cy="119124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譯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文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320" y="4038480"/>
            <a:ext cx="100368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編寫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程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038480"/>
            <a:ext cx="293688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經編譯器翻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為機械語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3657600"/>
            <a:ext cx="190512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電腦可執行的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2438280"/>
            <a:ext cx="60984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438280"/>
            <a:ext cx="60948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4648320"/>
            <a:ext cx="6094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4648320"/>
            <a:ext cx="6094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的過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把原程式內的每一個指令翻譯成為機器語言，並儲存為另一個檔案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執行檔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每一次程式修改後，都必須重新翻譯，所作的修改才會於執行檔出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962520"/>
            <a:ext cx="198144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編譯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建置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文鼎粗圓"/>
              </a:rPr>
              <a:t>檔案為執行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3886200"/>
            <a:ext cx="1828800" cy="838080"/>
          </a:xfrm>
          <a:prstGeom prst="rect">
            <a:avLst/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編寫原程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257800"/>
            <a:ext cx="1066680" cy="14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黑"/>
              </a:rPr>
              <a:t>原程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5257800"/>
            <a:ext cx="1066680" cy="14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黑"/>
              </a:rPr>
              <a:t>執行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3505320"/>
            <a:ext cx="1828800" cy="1066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電腦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行檔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7" idx="2"/>
            <a:endCxn id="218" idx="2"/>
          </p:cNvCxnSpPr>
          <p:nvPr/>
        </p:nvCxnSpPr>
        <p:spPr>
          <a:xfrm flipH="1" rot="16200000">
            <a:off x="588960" y="5238360"/>
            <a:ext cx="1220040" cy="267120"/>
          </a:xfrm>
          <a:prstGeom prst="bentConnector2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8" idx="4"/>
            <a:endCxn id="216" idx="1"/>
          </p:cNvCxnSpPr>
          <p:nvPr/>
        </p:nvCxnSpPr>
        <p:spPr>
          <a:xfrm flipV="1">
            <a:off x="2476440" y="4571640"/>
            <a:ext cx="610560" cy="1410480"/>
          </a:xfrm>
          <a:prstGeom prst="bentConnector3">
            <a:avLst>
              <a:gd name="adj1" fmla="val 49970"/>
            </a:avLst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3"/>
            <a:endCxn id="219" idx="2"/>
          </p:cNvCxnSpPr>
          <p:nvPr/>
        </p:nvCxnSpPr>
        <p:spPr>
          <a:xfrm>
            <a:off x="5143320" y="4572000"/>
            <a:ext cx="610200" cy="1410480"/>
          </a:xfrm>
          <a:prstGeom prst="bentConnector3">
            <a:avLst>
              <a:gd name="adj1" fmla="val 50000"/>
            </a:avLst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9" idx="4"/>
            <a:endCxn id="220" idx="2"/>
          </p:cNvCxnSpPr>
          <p:nvPr/>
        </p:nvCxnSpPr>
        <p:spPr>
          <a:xfrm flipV="1">
            <a:off x="6895800" y="4609800"/>
            <a:ext cx="191160" cy="1372320"/>
          </a:xfrm>
          <a:prstGeom prst="bentConnector2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7620120" y="5105520"/>
            <a:ext cx="1295280" cy="13716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輸出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0" idx="3"/>
            <a:endCxn id="225" idx="0"/>
          </p:cNvCxnSpPr>
          <p:nvPr/>
        </p:nvCxnSpPr>
        <p:spPr>
          <a:xfrm>
            <a:off x="8038800" y="4038480"/>
            <a:ext cx="229320" cy="1029600"/>
          </a:xfrm>
          <a:prstGeom prst="bentConnector2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3:07:45Z</dcterms:created>
  <dc:creator>Jimmy Lio</dc:creator>
  <dc:description/>
  <dc:language>en-US</dc:language>
  <cp:lastModifiedBy>Jimmy Lio</cp:lastModifiedBy>
  <dcterms:modified xsi:type="dcterms:W3CDTF">2008-09-11T05:57:51Z</dcterms:modified>
  <cp:revision>18</cp:revision>
  <dc:subject/>
  <dc:title>資訊科十年級</dc:title>
</cp:coreProperties>
</file>