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545-C1D4-4825-8657-27D2BB80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78D-4862-4F73-A232-A2675F7F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A76-D324-4F9F-8D18-6184DB8E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269-FAEB-4967-9FB9-E6A8DE65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CCCC-F0E8-4821-BBFA-E486A61F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F524-63DA-456A-9DF5-FA20938F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05A0-7D2D-4A6C-AD8D-0EABB92E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C06F-AACD-4ED3-A008-95CF0693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CBE3-2D0D-4323-B2C0-AB826BD5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4D92-C1D6-4AC1-A313-0AD961CE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3EBF-4109-4AF4-9AA7-0B6FFDDF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D28-044E-4BDB-9357-D1C7ED05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33F2-3C91-4532-96D3-D2EED3B8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A840-CB06-492F-BCE1-C78F2D73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D091-9227-479C-A176-98D310E1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ED55-E92B-48EE-96F4-27634B96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CD86-C1EA-4228-859C-22C76B6D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D30F-D11E-4A38-A5BF-FAE25761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447-E027-4C43-A2D8-5A51D370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ED4-91F3-47F0-8CF2-6CE47641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E4F-6918-47EC-AF7D-FF73AF88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3CB-984D-4028-862A-9A2970B6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06A-6EA3-4E6C-858B-AFE842CB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1F9-D038-421D-8BD9-293248FF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F7C4-66EE-45DE-9AAB-47B8DE79A302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7F9F-7352-499C-BA47-48C3469DB5A1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store.apple.com/1-800-MY-APPLE/WebObjects/AppleStore?family=iPodmini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glio@eslc.k12.edu.mo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9999"/>
                </a:solidFill>
                <a:latin typeface="Arial"/>
                <a:ea typeface="文鼎粗黑"/>
              </a:rPr>
              <a:t>資訊科十年級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7e9ce8"/>
                </a:solidFill>
                <a:latin typeface="Arial"/>
                <a:ea typeface="文鼎粗圓"/>
              </a:rPr>
              <a:t>課程介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7e9ce8"/>
                </a:solidFill>
                <a:latin typeface="Arial"/>
                <a:ea typeface="文鼎粗圓"/>
              </a:rPr>
              <a:t>Visual Basic (VB) </a:t>
            </a:r>
            <a:r>
              <a:rPr b="0" lang="zh-TW" sz="2800" spc="-1" strike="noStrike">
                <a:solidFill>
                  <a:srgbClr val="7e9ce8"/>
                </a:solidFill>
                <a:latin typeface="Arial"/>
                <a:ea typeface="文鼎粗圓"/>
              </a:rPr>
              <a:t>電腦程式編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檔案名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檔案名稱：識別檔案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分兩部份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99"/>
                </a:solidFill>
                <a:latin typeface="Courier New"/>
                <a:ea typeface="文鼎粗圓"/>
              </a:rPr>
              <a:t>主檔名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：檔案的名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7e9ce8"/>
                </a:solidFill>
                <a:latin typeface="Courier New"/>
                <a:ea typeface="文鼎粗圓"/>
              </a:rPr>
              <a:t>副檔名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：又名延伸檔名，通常以三個字元組成，用以表示檔案所屬類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267080"/>
            <a:ext cx="480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669999"/>
                </a:solidFill>
                <a:latin typeface="Arial"/>
              </a:rPr>
              <a:t>homework</a:t>
            </a:r>
            <a:r>
              <a:rPr b="1" lang="zh-TW" sz="5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5000" spc="-1" strike="noStrike">
                <a:solidFill>
                  <a:srgbClr val="7e9ce8"/>
                </a:solidFill>
                <a:latin typeface="Arial"/>
              </a:rPr>
              <a:t>do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3080" y="5181480"/>
            <a:ext cx="637920" cy="1287720"/>
            <a:chOff x="3583080" y="5181480"/>
            <a:chExt cx="637920" cy="1287720"/>
          </a:xfrm>
        </p:grpSpPr>
        <p:sp>
          <p:nvSpPr>
            <p:cNvPr id="181" name=""/>
            <p:cNvSpPr/>
            <p:nvPr/>
          </p:nvSpPr>
          <p:spPr>
            <a:xfrm>
              <a:off x="3583080" y="6070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主檔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86200" y="5181480"/>
              <a:ext cx="0" cy="914400"/>
            </a:xfrm>
            <a:prstGeom prst="line">
              <a:avLst/>
            </a:prstGeom>
            <a:ln w="57240">
              <a:solidFill>
                <a:srgbClr val="66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716800" y="5181480"/>
            <a:ext cx="637920" cy="1287720"/>
            <a:chOff x="5716800" y="5181480"/>
            <a:chExt cx="637920" cy="1287720"/>
          </a:xfrm>
        </p:grpSpPr>
        <p:sp>
          <p:nvSpPr>
            <p:cNvPr id="184" name=""/>
            <p:cNvSpPr/>
            <p:nvPr/>
          </p:nvSpPr>
          <p:spPr>
            <a:xfrm>
              <a:off x="5716800" y="6070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副檔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9920" y="5181480"/>
              <a:ext cx="0" cy="914400"/>
            </a:xfrm>
            <a:prstGeom prst="line">
              <a:avLst/>
            </a:prstGeom>
            <a:ln w="57240">
              <a:solidFill>
                <a:srgbClr val="7e9c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438280" y="5029200"/>
            <a:ext cx="2895840" cy="0"/>
          </a:xfrm>
          <a:prstGeom prst="line">
            <a:avLst/>
          </a:prstGeom>
          <a:ln cap="rnd" w="38160">
            <a:solidFill>
              <a:srgbClr val="66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62720" y="5029200"/>
            <a:ext cx="990360" cy="0"/>
          </a:xfrm>
          <a:prstGeom prst="line">
            <a:avLst/>
          </a:prstGeom>
          <a:ln w="28440">
            <a:solidFill>
              <a:srgbClr val="7e9ce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儲存媒體介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30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完成作業後，所有檔案應自行備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磁碟：便宜，儲存量少，但足夠應付課堂需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磁碟容易損壞，檔案應備份在最少兩隻磁碟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USB RAM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：較昂貴，儲存量大，不易損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MP3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機：更昂貴，儲存量大，不易損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3520" y="46483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66688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iPod min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4724280"/>
            <a:ext cx="216216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7085160" y="4800600"/>
            <a:ext cx="162540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絕對路徑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表示檔案儲存位置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絕對路徑的例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3526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G:\</a:t>
            </a:r>
            <a:r>
              <a:rPr b="1" lang="en-US" sz="4000" spc="-1" strike="noStrike">
                <a:solidFill>
                  <a:srgbClr val="cccc00"/>
                </a:solidFill>
                <a:latin typeface="Arial"/>
              </a:rPr>
              <a:t>abc\xyz\123\</a:t>
            </a:r>
            <a:r>
              <a:rPr b="1" lang="en-US" sz="4000" spc="-1" strike="noStrike">
                <a:solidFill>
                  <a:srgbClr val="669999"/>
                </a:solidFill>
                <a:latin typeface="Arial"/>
              </a:rPr>
              <a:t>homewor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7e9ce8"/>
                </a:solidFill>
                <a:latin typeface="Arial"/>
              </a:rPr>
              <a:t>do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0960" y="3276720"/>
            <a:ext cx="1066680" cy="99036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4720" y="3962520"/>
            <a:ext cx="2897280" cy="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3962520"/>
            <a:ext cx="2514600" cy="0"/>
          </a:xfrm>
          <a:prstGeom prst="line">
            <a:avLst/>
          </a:prstGeom>
          <a:ln cap="rnd" w="38160">
            <a:solidFill>
              <a:srgbClr val="66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7e9ce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39520" y="4267080"/>
            <a:ext cx="866520" cy="1279440"/>
            <a:chOff x="839520" y="4267080"/>
            <a:chExt cx="866520" cy="1279440"/>
          </a:xfrm>
        </p:grpSpPr>
        <p:sp>
          <p:nvSpPr>
            <p:cNvPr id="204" name=""/>
            <p:cNvSpPr/>
            <p:nvPr/>
          </p:nvSpPr>
          <p:spPr>
            <a:xfrm>
              <a:off x="1284120" y="4267080"/>
              <a:ext cx="0" cy="91440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9520" y="51782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磁碟機代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581200" y="4038480"/>
            <a:ext cx="866520" cy="1206360"/>
            <a:chOff x="2581200" y="4038480"/>
            <a:chExt cx="866520" cy="1206360"/>
          </a:xfrm>
        </p:grpSpPr>
        <p:sp>
          <p:nvSpPr>
            <p:cNvPr id="207" name=""/>
            <p:cNvSpPr/>
            <p:nvPr/>
          </p:nvSpPr>
          <p:spPr>
            <a:xfrm>
              <a:off x="2581200" y="4876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資料夾位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36600" y="4038480"/>
              <a:ext cx="0" cy="83808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385240" y="4038480"/>
            <a:ext cx="592200" cy="1282680"/>
            <a:chOff x="5385240" y="4038480"/>
            <a:chExt cx="592200" cy="1282680"/>
          </a:xfrm>
        </p:grpSpPr>
        <p:sp>
          <p:nvSpPr>
            <p:cNvPr id="210" name=""/>
            <p:cNvSpPr/>
            <p:nvPr/>
          </p:nvSpPr>
          <p:spPr>
            <a:xfrm>
              <a:off x="5385240" y="4952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主檔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03840" y="4038480"/>
              <a:ext cx="0" cy="914400"/>
            </a:xfrm>
            <a:prstGeom prst="line">
              <a:avLst/>
            </a:prstGeom>
            <a:ln w="57240">
              <a:solidFill>
                <a:srgbClr val="66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7138080" y="4038480"/>
            <a:ext cx="592200" cy="1282680"/>
            <a:chOff x="7138080" y="4038480"/>
            <a:chExt cx="592200" cy="1282680"/>
          </a:xfrm>
        </p:grpSpPr>
        <p:sp>
          <p:nvSpPr>
            <p:cNvPr id="213" name=""/>
            <p:cNvSpPr/>
            <p:nvPr/>
          </p:nvSpPr>
          <p:spPr>
            <a:xfrm>
              <a:off x="7138080" y="4952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副檔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56320" y="4038480"/>
              <a:ext cx="0" cy="914400"/>
            </a:xfrm>
            <a:prstGeom prst="line">
              <a:avLst/>
            </a:prstGeom>
            <a:ln w="57240">
              <a:solidFill>
                <a:srgbClr val="7e9c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絕對路徑例子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525780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列出以下檔案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/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資料夾的絕對路徑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10A.p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9B.ht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Good.jp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Bad.o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Bo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Gir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705720" y="2058840"/>
            <a:ext cx="533160" cy="455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305920" y="4343400"/>
            <a:ext cx="517320" cy="533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305920" y="3048120"/>
            <a:ext cx="495360" cy="609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467480" y="2590920"/>
            <a:ext cx="533520" cy="4554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7467480" y="3809880"/>
            <a:ext cx="533520" cy="455760"/>
          </a:xfrm>
          <a:prstGeom prst="rect">
            <a:avLst/>
          </a:prstGeom>
          <a:ln w="0">
            <a:noFill/>
          </a:ln>
        </p:spPr>
      </p:pic>
      <p:cxnSp>
        <p:nvCxnSpPr>
          <p:cNvPr id="223" name=""/>
          <p:cNvCxnSpPr>
            <a:stCxn id="218" idx="2"/>
            <a:endCxn id="221" idx="1"/>
          </p:cNvCxnSpPr>
          <p:nvPr/>
        </p:nvCxnSpPr>
        <p:spPr>
          <a:xfrm flipH="1" rot="16200000">
            <a:off x="7066440" y="2419200"/>
            <a:ext cx="305640" cy="49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21" idx="2"/>
            <a:endCxn id="220" idx="1"/>
          </p:cNvCxnSpPr>
          <p:nvPr/>
        </p:nvCxnSpPr>
        <p:spPr>
          <a:xfrm flipH="1" rot="16200000">
            <a:off x="7867080" y="2912760"/>
            <a:ext cx="306720" cy="572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8" idx="2"/>
            <a:endCxn id="222" idx="1"/>
          </p:cNvCxnSpPr>
          <p:nvPr/>
        </p:nvCxnSpPr>
        <p:spPr>
          <a:xfrm flipH="1" rot="16200000">
            <a:off x="6456960" y="3028680"/>
            <a:ext cx="1524600" cy="49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2" idx="2"/>
            <a:endCxn id="219" idx="1"/>
          </p:cNvCxnSpPr>
          <p:nvPr/>
        </p:nvCxnSpPr>
        <p:spPr>
          <a:xfrm flipH="1" rot="16200000">
            <a:off x="7847640" y="4151520"/>
            <a:ext cx="345240" cy="572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8381880" y="5257800"/>
            <a:ext cx="495360" cy="609480"/>
          </a:xfrm>
          <a:prstGeom prst="rect">
            <a:avLst/>
          </a:prstGeom>
          <a:ln w="0">
            <a:noFill/>
          </a:ln>
        </p:spPr>
      </p:pic>
      <p:cxnSp>
        <p:nvCxnSpPr>
          <p:cNvPr id="228" name=""/>
          <p:cNvCxnSpPr>
            <a:stCxn id="222" idx="2"/>
            <a:endCxn id="227" idx="1"/>
          </p:cNvCxnSpPr>
          <p:nvPr/>
        </p:nvCxnSpPr>
        <p:spPr>
          <a:xfrm flipH="1" rot="16200000">
            <a:off x="7408440" y="4590000"/>
            <a:ext cx="129780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6486840" y="175248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73960" y="23241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93040" y="353700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i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64800" y="276372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A.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03320" y="407340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B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45360" y="497844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Good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7505640" y="5943600"/>
            <a:ext cx="495360" cy="609480"/>
          </a:xfrm>
          <a:prstGeom prst="rect">
            <a:avLst/>
          </a:prstGeom>
          <a:ln w="0">
            <a:noFill/>
          </a:ln>
        </p:spPr>
      </p:pic>
      <p:cxnSp>
        <p:nvCxnSpPr>
          <p:cNvPr id="236" name=""/>
          <p:cNvCxnSpPr>
            <a:stCxn id="218" idx="2"/>
            <a:endCxn id="235" idx="1"/>
          </p:cNvCxnSpPr>
          <p:nvPr/>
        </p:nvCxnSpPr>
        <p:spPr>
          <a:xfrm flipH="1" rot="16200000">
            <a:off x="5371200" y="4114800"/>
            <a:ext cx="373464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7353720" y="568656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Bad.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/>
          <p:nvPr/>
        </p:nvCxnSpPr>
        <p:spPr>
          <a:xfrm flipH="1" rot="16200000">
            <a:off x="6228720" y="1847520"/>
            <a:ext cx="306720" cy="572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5724360" y="1336680"/>
            <a:ext cx="752760" cy="492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913360" y="106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下週測驗！中文輸入法大比拼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檔案已置於本日的課堂資料夾內；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檔名：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Test.tx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時間：一堂時間內完成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合格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= 100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；肥佬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= 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電腦室使用守則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愛護公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師長講解期間電腦會被鎖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必須於堂上完成所有作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與課堂無關的光碟，需徵得老師同意方可使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絕對禁止瀏覽色情、暴力或任何意識不良的網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課程所需物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719000"/>
            <a:ext cx="86104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常備：筆、筆記簿、磁碟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/USB 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教科書：無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文鼎粗圓"/>
              </a:rPr>
              <a:t>儲存於</a:t>
            </a:r>
            <a:r>
              <a:rPr b="1" lang="zh-TW" sz="2200" spc="-1" strike="noStrike">
                <a:solidFill>
                  <a:srgbClr val="000000"/>
                </a:solidFill>
                <a:latin typeface="Courier New"/>
                <a:ea typeface="文鼎粗圓"/>
              </a:rPr>
              <a:t>INF</a:t>
            </a: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文鼎粗圓"/>
              </a:rPr>
              <a:t>磁碟機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Visual Basic 2008 Express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程式軟件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可於自行下載，網址如下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7e9ce8"/>
                </a:solidFill>
                <a:latin typeface="Courier New"/>
                <a:ea typeface="文鼎粗圓"/>
              </a:rPr>
              <a:t>http://www.microsoft.com/express/vb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文鼎粗圓"/>
              </a:rPr>
              <a:t>下週可向科代表借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導師</a:t>
            </a:r>
            <a:r>
              <a:rPr b="1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E-mail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：</a:t>
            </a:r>
            <a:r>
              <a:rPr b="0" lang="zh-TW" sz="2600" spc="-1" strike="noStrike" u="sng">
                <a:solidFill>
                  <a:srgbClr val="7e9ce8"/>
                </a:solidFill>
                <a:uFillTx/>
                <a:latin typeface="Courier New"/>
                <a:ea typeface="文鼎粗圓"/>
                <a:hlinkClick r:id="rId1"/>
              </a:rPr>
              <a:t>glio@eslc.k12.edu.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導師</a:t>
            </a:r>
            <a:r>
              <a:rPr b="1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ICQ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：</a:t>
            </a:r>
            <a:r>
              <a:rPr b="1" lang="zh-TW" sz="2600" spc="-1" strike="noStrike">
                <a:solidFill>
                  <a:srgbClr val="7e9ce8"/>
                </a:solidFill>
                <a:latin typeface="Courier New"/>
                <a:ea typeface="文鼎粗圓"/>
              </a:rPr>
              <a:t>1575069 (sisila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課程簡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利用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Visual Basic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編寫程式解決問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明白程式編寫的基本原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具備自學電腦語言的能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懂得利用互聯網解決問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中文輸入練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同學們必須學懂以鍵盤或其他工具輸入中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考核方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堂上作業 </a:t>
            </a:r>
            <a:r>
              <a:rPr b="1" lang="zh-TW" sz="3000" spc="-1" strike="noStrike">
                <a:solidFill>
                  <a:srgbClr val="7e9ce8"/>
                </a:solidFill>
                <a:latin typeface="Courier New"/>
                <a:ea typeface="文鼎粗圓"/>
              </a:rPr>
              <a:t>(~3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測驗：筆試、機試 </a:t>
            </a:r>
            <a:r>
              <a:rPr b="1" lang="zh-TW" sz="3000" spc="-1" strike="noStrike">
                <a:solidFill>
                  <a:srgbClr val="7e9ce8"/>
                </a:solidFill>
                <a:latin typeface="Courier New"/>
                <a:ea typeface="文鼎粗圓"/>
              </a:rPr>
              <a:t>(~4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程式編寫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Project </a:t>
            </a:r>
            <a:r>
              <a:rPr b="1" lang="zh-TW" sz="3000" spc="-1" strike="noStrike">
                <a:solidFill>
                  <a:srgbClr val="7e9ce8"/>
                </a:solidFill>
                <a:latin typeface="Courier New"/>
                <a:ea typeface="文鼎粗圓"/>
              </a:rPr>
              <a:t>(~2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中文輸入測驗 </a:t>
            </a:r>
            <a:r>
              <a:rPr b="1" lang="zh-TW" sz="3000" spc="-1" strike="noStrike">
                <a:solidFill>
                  <a:srgbClr val="7e9ce8"/>
                </a:solidFill>
                <a:latin typeface="Courier New"/>
                <a:ea typeface="文鼎粗圓"/>
              </a:rPr>
              <a:t>(~1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除倉頡輸入法外，同學亦可使用其他輸入法，以及其他中文輸入工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投入度 </a:t>
            </a:r>
            <a:r>
              <a:rPr b="1" lang="zh-TW" sz="3000" spc="-1" strike="noStrike">
                <a:solidFill>
                  <a:srgbClr val="7e9ce8"/>
                </a:solidFill>
                <a:latin typeface="Courier New"/>
                <a:ea typeface="文鼎粗圓"/>
              </a:rPr>
              <a:t>(~1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課程必勝策略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爭取使用電腦的機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安裝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VB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於家中自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有效使用互聯網上關於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VB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的資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主動找人協助解決問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與同學合作，儘早完成作業、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練習中文輸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...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最後的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10%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參予度分數，你想想該如何取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Visual Basic</a:t>
            </a: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下載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可於 </a:t>
            </a:r>
            <a:r>
              <a:rPr b="0" lang="zh-TW" sz="2500" spc="-1" strike="noStrike" u="sng">
                <a:solidFill>
                  <a:srgbClr val="7e9ce8"/>
                </a:solidFill>
                <a:uFillTx/>
                <a:latin typeface="Courier New"/>
                <a:ea typeface="文鼎粗圓"/>
                <a:hlinkClick r:id="rId1"/>
              </a:rPr>
              <a:t>http://www.</a:t>
            </a:r>
            <a:r>
              <a:rPr b="1" lang="zh-TW" sz="2500" spc="-1" strike="noStrike" u="sng">
                <a:solidFill>
                  <a:srgbClr val="7e9ce8"/>
                </a:solidFill>
                <a:uFillTx/>
                <a:latin typeface="Courier New"/>
                <a:ea typeface="文鼎粗圓"/>
              </a:rPr>
              <a:t>microsoft.com/express/vb/</a:t>
            </a:r>
            <a:r>
              <a:rPr b="1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 </a:t>
            </a:r>
            <a:r>
              <a:rPr b="0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下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先選擇語系，下載</a:t>
            </a: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VB</a:t>
            </a: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安裝程式，檔名：</a:t>
            </a: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vbsetup.exe</a:t>
            </a: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；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下載後執該檔，電腦開始下載程序；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檔案大小若為</a:t>
            </a: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177MB</a:t>
            </a: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有興趣編程的同學，可選擇下</a:t>
            </a:r>
            <a:r>
              <a:rPr b="0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Microsoft Visual Studio Express</a:t>
            </a:r>
            <a:r>
              <a:rPr b="0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下週開始由班代表負責借用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019920" y="4495680"/>
            <a:ext cx="2749320" cy="2028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本日課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檔案管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儲存媒體介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磁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USB 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MP3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 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絕對路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Adobe Reader 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介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VB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下載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檔案管理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檔案：記錄資料，不同的軟件製作不同的檔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Word → 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文件檔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Excel → 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試算表檔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Python → 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電腦程式檔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檔案特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儲存量：記錄資料所佔的儲存空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儲存路徑：檔案於電腦儲存裝置的儲存位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屬性：隱藏、唯讀、保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檔案名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23:07:45Z</dcterms:created>
  <dc:creator>Jimmy Lio</dc:creator>
  <dc:description/>
  <dc:language>en-US</dc:language>
  <cp:lastModifiedBy>Jimmy Lio</cp:lastModifiedBy>
  <dcterms:modified xsi:type="dcterms:W3CDTF">2008-09-04T05:07:39Z</dcterms:modified>
  <cp:revision>20</cp:revision>
  <dc:subject/>
  <dc:title>資訊科十年級</dc:title>
</cp:coreProperties>
</file>