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059B-44CF-4C7A-834D-1D335C00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D5F7-FDE4-4EC1-BDFF-E3579EE7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4362-EFA7-42E0-9EF7-D912CF57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F457-E16D-4874-A601-C599DF0E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D09B-65D6-4E9B-8671-FD0C2074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A19-5740-4EB0-A48E-1FB0BAA1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A2DD-E1B5-40B7-BD02-4A49251E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B7FC-7EC6-4977-8273-35015F31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21B-FD0C-4597-ADBF-F0670CDA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B6B-F835-4C6B-8949-743D9ED1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0D7-F0FD-406B-A35F-32F3D7F2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891-9AB6-4B5C-A41A-C75D47DE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20B3-C344-4C19-A440-7B5E2D5BB05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文鼎中圓"/>
                <a:ea typeface="文鼎中圓"/>
              </a:rPr>
              <a:t>高中回歸教育為成人教育的</a:t>
            </a:r>
            <a:br>
              <a:rPr sz="4400"/>
            </a:br>
            <a:r>
              <a:rPr b="0" lang="zh-TW" sz="4400" spc="-1" strike="noStrike">
                <a:solidFill>
                  <a:srgbClr val="ffff00"/>
                </a:solidFill>
                <a:latin typeface="文鼎中圓"/>
                <a:ea typeface="文鼎中圓"/>
              </a:rPr>
              <a:t>一部份</a:t>
            </a:r>
            <a:r>
              <a:rPr b="0" lang="zh-TW" sz="4400" spc="-1" strike="noStrike">
                <a:solidFill>
                  <a:srgbClr val="ffff00"/>
                </a:solidFill>
                <a:latin typeface="文鼎中圓"/>
                <a:ea typeface="文鼎中圓"/>
              </a:rPr>
              <a:t>, </a:t>
            </a:r>
            <a:r>
              <a:rPr b="0" lang="zh-TW" sz="4400" spc="-1" strike="noStrike">
                <a:solidFill>
                  <a:srgbClr val="ffff00"/>
                </a:solidFill>
                <a:latin typeface="文鼎中圓"/>
                <a:ea typeface="文鼎中圓"/>
              </a:rPr>
              <a:t>於本校首先實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3276720"/>
            <a:ext cx="7619760" cy="2895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4343400"/>
            <a:ext cx="2743200" cy="1600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文鼎中圓"/>
              </a:rPr>
              <a:t>高中回歸教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文鼎中圓"/>
              </a:rPr>
              <a:t>成人教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66cc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Times New Roman"/>
                <a:ea typeface="文鼎空疊圓"/>
              </a:rPr>
              <a:t>出勤制度 </a:t>
            </a:r>
            <a:r>
              <a:rPr b="1" lang="zh-TW" sz="5400" spc="-1" strike="noStrike">
                <a:solidFill>
                  <a:srgbClr val="0000ff"/>
                </a:solidFill>
                <a:latin typeface="Times New Roman"/>
                <a:ea typeface="文鼎空疊圓"/>
              </a:rPr>
              <a:t>-- </a:t>
            </a:r>
            <a:r>
              <a:rPr b="1" lang="zh-TW" sz="5400" spc="-1" strike="noStrike">
                <a:solidFill>
                  <a:srgbClr val="0000ff"/>
                </a:solidFill>
                <a:latin typeface="Times New Roman"/>
                <a:ea typeface="文鼎空疊圓"/>
              </a:rPr>
              <a:t>合理缺勤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ff"/>
              </a:buClr>
              <a:buFont typeface="文鼎細上海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文鼎細上海宋"/>
                <a:ea typeface="文鼎細上海宋"/>
              </a:rPr>
              <a:t>合理缺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病假 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-- 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須出示醫生証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事假 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-- 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須提前填表申請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, 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經校方同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文鼎細上海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合理缺勤限額為每周上課節數的</a:t>
            </a:r>
            <a:r>
              <a:rPr b="0" lang="zh-TW" sz="3200" spc="-1" strike="noStrike">
                <a:solidFill>
                  <a:srgbClr val="ff0000"/>
                </a:solidFill>
                <a:latin typeface="文鼎細上海宋"/>
                <a:ea typeface="文鼎細上海宋"/>
              </a:rPr>
              <a:t>5</a:t>
            </a:r>
            <a:r>
              <a:rPr b="0" lang="zh-TW" sz="3200" spc="-1" strike="noStrike">
                <a:solidFill>
                  <a:srgbClr val="ff0000"/>
                </a:solidFill>
                <a:latin typeface="文鼎細上海宋"/>
                <a:ea typeface="文鼎細上海宋"/>
              </a:rPr>
              <a:t>倍</a:t>
            </a:r>
            <a:r>
              <a:rPr b="0" lang="zh-TW" sz="32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，超出限額則喪失該科考試資格</a:t>
            </a:r>
            <a:r>
              <a:rPr b="0" lang="zh-TW" sz="32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cc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Times New Roman"/>
                <a:ea typeface="文鼎空疊圓"/>
              </a:rPr>
              <a:t>出勤制度 </a:t>
            </a:r>
            <a:r>
              <a:rPr b="1" lang="zh-TW" sz="5400" spc="-1" strike="noStrike">
                <a:solidFill>
                  <a:srgbClr val="ff0000"/>
                </a:solidFill>
                <a:latin typeface="Times New Roman"/>
                <a:ea typeface="文鼎空疊圓"/>
              </a:rPr>
              <a:t>-- </a:t>
            </a:r>
            <a:r>
              <a:rPr b="1" lang="zh-TW" sz="5400" spc="-1" strike="noStrike">
                <a:solidFill>
                  <a:srgbClr val="ff0000"/>
                </a:solidFill>
                <a:latin typeface="Times New Roman"/>
                <a:ea typeface="文鼎空疊圓"/>
              </a:rPr>
              <a:t>不合理缺勤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文鼎細上海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文鼎細上海宋"/>
                <a:ea typeface="文鼎細上海宋"/>
              </a:rPr>
              <a:t>不合理缺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不符合前述合理缺勤條件的缺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文鼎細上海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文鼎細上海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不合理缺勤限額為每周上課節數的</a:t>
            </a:r>
            <a:r>
              <a:rPr b="0" lang="zh-TW" sz="3200" spc="-1" strike="noStrike">
                <a:solidFill>
                  <a:srgbClr val="ff0000"/>
                </a:solidFill>
                <a:latin typeface="文鼎細上海宋"/>
                <a:ea typeface="文鼎細上海宋"/>
              </a:rPr>
              <a:t>3</a:t>
            </a:r>
            <a:r>
              <a:rPr b="0" lang="zh-TW" sz="3200" spc="-1" strike="noStrike">
                <a:solidFill>
                  <a:srgbClr val="ff0000"/>
                </a:solidFill>
                <a:latin typeface="文鼎細上海宋"/>
                <a:ea typeface="文鼎細上海宋"/>
              </a:rPr>
              <a:t>倍</a:t>
            </a:r>
            <a:r>
              <a:rPr b="0" lang="zh-TW" sz="32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，超過限額則喪失該科考試資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上課時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日間時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09:00~12:40 (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每節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分鐘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夜間時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18:30~22:10 (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每節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分鐘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（日間時段）上課時間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4000" y="1484280"/>
          <a:ext cx="8134200" cy="5094360"/>
        </p:xfrm>
        <a:graphic>
          <a:graphicData uri="http://schemas.openxmlformats.org/drawingml/2006/table">
            <a:tbl>
              <a:tblPr/>
              <a:tblGrid>
                <a:gridCol w="1655640"/>
                <a:gridCol w="1297080"/>
                <a:gridCol w="1295280"/>
                <a:gridCol w="1174680"/>
                <a:gridCol w="1355760"/>
                <a:gridCol w="13557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０９：００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０９：４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文（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數學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資訊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經濟與會計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地理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０９：４０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０：２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文（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數學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資訊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經濟與會計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地理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０：３０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１：１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藝術（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文（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歷史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葡文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文（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葡文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１：２０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２：０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藝術（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文（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歷史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葡文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文（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數學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２：００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２：４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藝術（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個人及社會發展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文（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數學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685800" y="1197000"/>
          <a:ext cx="7772400" cy="5470560"/>
        </p:xfrm>
        <a:graphic>
          <a:graphicData uri="http://schemas.openxmlformats.org/drawingml/2006/table">
            <a:tbl>
              <a:tblPr/>
              <a:tblGrid>
                <a:gridCol w="1222200"/>
                <a:gridCol w="1008360"/>
                <a:gridCol w="1295280"/>
                <a:gridCol w="1297080"/>
                <a:gridCol w="1654200"/>
                <a:gridCol w="129528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藝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輔導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數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資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地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９：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藝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數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資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地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藝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歷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化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個人及社會發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經濟與會計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物理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葡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０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歷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化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葡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經濟與會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物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數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輔導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葡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輔導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數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（夜間時段）上課時間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上課地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1989000"/>
            <a:ext cx="755676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日、夜間課程均在本校上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報名須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所需文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身份證正、副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初中畢業證書或有效學歷文件之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正、副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吋半近照兩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6600"/>
                </a:solidFill>
                <a:latin typeface="Times New Roman"/>
              </a:rPr>
              <a:t>(</a:t>
            </a:r>
            <a:r>
              <a:rPr b="0" lang="zh-TW" sz="3600" spc="-1" strike="noStrike">
                <a:solidFill>
                  <a:srgbClr val="ff6600"/>
                </a:solidFill>
                <a:latin typeface="Times New Roman"/>
              </a:rPr>
              <a:t>歡迎致電查詢及預約報名時間</a:t>
            </a:r>
            <a:r>
              <a:rPr b="0" lang="zh-TW" sz="3600" spc="-1" strike="noStrike">
                <a:solidFill>
                  <a:srgbClr val="ff66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1197000"/>
            <a:ext cx="7772400" cy="115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cc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  <a:ea typeface="文鼎空疊圓"/>
              </a:rPr>
              <a:t>報名手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2708280"/>
            <a:ext cx="7772400" cy="29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文鼎細上海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i) </a:t>
            </a:r>
            <a:r>
              <a:rPr b="0" lang="zh-TW" sz="40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面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文鼎細上海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ii) </a:t>
            </a:r>
            <a:r>
              <a:rPr b="0" lang="zh-TW" sz="40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填寫表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	</a:t>
            </a:r>
            <a:r>
              <a:rPr b="0" lang="zh-TW" sz="40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	</a:t>
            </a:r>
            <a:r>
              <a:rPr b="0" lang="zh-TW" sz="36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註冊表、選課表及工作聲明書</a:t>
            </a:r>
            <a:r>
              <a:rPr b="0" lang="zh-TW" sz="36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文鼎細上海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iii) </a:t>
            </a:r>
            <a:r>
              <a:rPr b="0" lang="zh-TW" sz="40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註冊及繳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文鼎細上海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66cc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Times New Roman"/>
                <a:ea typeface="文鼎空疊圓"/>
              </a:rPr>
              <a:t> </a:t>
            </a:r>
            <a:r>
              <a:rPr b="1" lang="zh-TW" sz="5400" spc="-1" strike="noStrike">
                <a:solidFill>
                  <a:srgbClr val="000000"/>
                </a:solidFill>
                <a:latin typeface="Times New Roman"/>
                <a:ea typeface="文鼎空疊圓"/>
              </a:rPr>
              <a:t>目  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中仿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中仿"/>
                <a:ea typeface="文鼎中仿"/>
              </a:rPr>
              <a:t>i) </a:t>
            </a:r>
            <a:r>
              <a:rPr b="0" lang="zh-TW" sz="3200" spc="-1" strike="noStrike">
                <a:solidFill>
                  <a:srgbClr val="000000"/>
                </a:solidFill>
                <a:latin typeface="文鼎中仿"/>
                <a:ea typeface="文鼎中仿"/>
              </a:rPr>
              <a:t>確保在適齡時未能接受正規教育及輟學人仕</a:t>
            </a:r>
            <a:r>
              <a:rPr b="0" lang="zh-TW" sz="3200" spc="-1" strike="noStrike">
                <a:solidFill>
                  <a:srgbClr val="000000"/>
                </a:solidFill>
                <a:latin typeface="文鼎中仿"/>
                <a:ea typeface="文鼎中仿"/>
              </a:rPr>
              <a:t>,</a:t>
            </a:r>
            <a:r>
              <a:rPr b="0" lang="zh-TW" sz="3200" spc="-1" strike="noStrike">
                <a:solidFill>
                  <a:srgbClr val="000000"/>
                </a:solidFill>
                <a:latin typeface="文鼎中仿"/>
                <a:ea typeface="文鼎中仿"/>
              </a:rPr>
              <a:t>有接受教育之機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中仿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中仿"/>
                <a:ea typeface="文鼎中仿"/>
              </a:rPr>
              <a:t>ii) </a:t>
            </a:r>
            <a:r>
              <a:rPr b="0" lang="zh-TW" sz="3200" spc="-1" strike="noStrike">
                <a:solidFill>
                  <a:srgbClr val="000000"/>
                </a:solidFill>
                <a:latin typeface="文鼎中仿"/>
                <a:ea typeface="文鼎中仿"/>
              </a:rPr>
              <a:t>使學生獲取一系列的知識和技能</a:t>
            </a:r>
            <a:r>
              <a:rPr b="0" lang="zh-TW" sz="3200" spc="-1" strike="noStrike">
                <a:solidFill>
                  <a:srgbClr val="000000"/>
                </a:solidFill>
                <a:latin typeface="文鼎中仿"/>
                <a:ea typeface="文鼎中仿"/>
              </a:rPr>
              <a:t>, </a:t>
            </a:r>
            <a:r>
              <a:rPr b="0" lang="zh-TW" sz="3200" spc="-1" strike="noStrike">
                <a:solidFill>
                  <a:srgbClr val="000000"/>
                </a:solidFill>
                <a:latin typeface="文鼎中仿"/>
                <a:ea typeface="文鼎中仿"/>
              </a:rPr>
              <a:t>以建立對持續學習及取得技能之積極態度</a:t>
            </a:r>
            <a:r>
              <a:rPr b="0" lang="zh-TW" sz="3200" spc="-1" strike="noStrike">
                <a:solidFill>
                  <a:srgbClr val="000000"/>
                </a:solidFill>
                <a:latin typeface="文鼎中仿"/>
                <a:ea typeface="文鼎中仿"/>
              </a:rPr>
              <a:t>, </a:t>
            </a:r>
            <a:r>
              <a:rPr b="0" lang="zh-TW" sz="3200" spc="-1" strike="noStrike">
                <a:solidFill>
                  <a:srgbClr val="000000"/>
                </a:solidFill>
                <a:latin typeface="文鼎中仿"/>
                <a:ea typeface="文鼎中仿"/>
              </a:rPr>
              <a:t>並向學生傳授升讀高等教育所需的知識</a:t>
            </a:r>
            <a:r>
              <a:rPr b="0" lang="zh-TW" sz="3200" spc="-1" strike="noStrike">
                <a:solidFill>
                  <a:srgbClr val="000000"/>
                </a:solidFill>
                <a:latin typeface="文鼎中仿"/>
                <a:ea typeface="文鼎中仿"/>
              </a:rPr>
              <a:t>, </a:t>
            </a:r>
            <a:r>
              <a:rPr b="0" lang="zh-TW" sz="3200" spc="-1" strike="noStrike">
                <a:solidFill>
                  <a:srgbClr val="000000"/>
                </a:solidFill>
                <a:latin typeface="文鼎中仿"/>
                <a:ea typeface="文鼎中仿"/>
              </a:rPr>
              <a:t>或提供適當之技術培訓</a:t>
            </a:r>
            <a:r>
              <a:rPr b="0" lang="zh-TW" sz="3200" spc="-1" strike="noStrike">
                <a:solidFill>
                  <a:srgbClr val="000000"/>
                </a:solidFill>
                <a:latin typeface="文鼎中仿"/>
                <a:ea typeface="文鼎中仿"/>
              </a:rPr>
              <a:t>, </a:t>
            </a:r>
            <a:r>
              <a:rPr b="0" lang="zh-TW" sz="3200" spc="-1" strike="noStrike">
                <a:solidFill>
                  <a:srgbClr val="000000"/>
                </a:solidFill>
                <a:latin typeface="文鼎中仿"/>
                <a:ea typeface="文鼎中仿"/>
              </a:rPr>
              <a:t>藉此提高其職業技能</a:t>
            </a:r>
            <a:r>
              <a:rPr b="0" lang="zh-TW" sz="3200" spc="-1" strike="noStrike">
                <a:solidFill>
                  <a:srgbClr val="000000"/>
                </a:solidFill>
                <a:latin typeface="文鼎中仿"/>
                <a:ea typeface="文鼎中仿"/>
              </a:rPr>
              <a:t>, </a:t>
            </a:r>
            <a:r>
              <a:rPr b="0" lang="zh-TW" sz="3200" spc="-1" strike="noStrike">
                <a:solidFill>
                  <a:srgbClr val="000000"/>
                </a:solidFill>
                <a:latin typeface="文鼎中仿"/>
                <a:ea typeface="文鼎中仿"/>
              </a:rPr>
              <a:t>以及發展道德教育及公民意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66cc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Times New Roman"/>
                <a:ea typeface="文鼎空疊圓"/>
              </a:rPr>
              <a:t>學制 </a:t>
            </a:r>
            <a:r>
              <a:rPr b="1" lang="zh-TW" sz="5400" spc="-1" strike="noStrike">
                <a:solidFill>
                  <a:srgbClr val="000000"/>
                </a:solidFill>
                <a:latin typeface="Times New Roman"/>
                <a:ea typeface="文鼎空疊圓"/>
              </a:rPr>
              <a:t>-- </a:t>
            </a:r>
            <a:r>
              <a:rPr b="1" lang="zh-TW" sz="5400" spc="-1" strike="noStrike">
                <a:solidFill>
                  <a:srgbClr val="000000"/>
                </a:solidFill>
                <a:latin typeface="Times New Roman"/>
                <a:ea typeface="文鼎空疊圓"/>
              </a:rPr>
              <a:t>累積單元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細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細圓"/>
                <a:ea typeface="文鼎細圓"/>
              </a:rPr>
              <a:t>i) </a:t>
            </a:r>
            <a:r>
              <a:rPr b="0" lang="zh-TW" sz="3200" spc="-1" strike="noStrike">
                <a:solidFill>
                  <a:srgbClr val="000000"/>
                </a:solidFill>
                <a:latin typeface="文鼎細圓"/>
                <a:ea typeface="文鼎細圓"/>
              </a:rPr>
              <a:t>各科分為若干單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細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細圓"/>
                <a:ea typeface="文鼎細圓"/>
              </a:rPr>
              <a:t>ii) </a:t>
            </a:r>
            <a:r>
              <a:rPr b="0" lang="zh-TW" sz="3200" spc="-1" strike="noStrike">
                <a:solidFill>
                  <a:srgbClr val="000000"/>
                </a:solidFill>
                <a:latin typeface="文鼎細圓"/>
                <a:ea typeface="文鼎細圓"/>
              </a:rPr>
              <a:t>依次修讀</a:t>
            </a:r>
            <a:r>
              <a:rPr b="0" lang="zh-TW" sz="3200" spc="-1" strike="noStrike">
                <a:solidFill>
                  <a:srgbClr val="000000"/>
                </a:solidFill>
                <a:latin typeface="文鼎細圓"/>
                <a:ea typeface="文鼎細圓"/>
              </a:rPr>
              <a:t>, </a:t>
            </a:r>
            <a:r>
              <a:rPr b="0" lang="zh-TW" sz="3200" spc="-1" strike="noStrike">
                <a:solidFill>
                  <a:srgbClr val="000000"/>
                </a:solidFill>
                <a:latin typeface="文鼎細圓"/>
                <a:ea typeface="文鼎細圓"/>
              </a:rPr>
              <a:t>不限年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細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細圓"/>
                <a:ea typeface="文鼎細圓"/>
              </a:rPr>
              <a:t>iii) </a:t>
            </a:r>
            <a:r>
              <a:rPr b="0" lang="zh-TW" sz="3200" spc="-1" strike="noStrike">
                <a:solidFill>
                  <a:srgbClr val="000000"/>
                </a:solidFill>
                <a:latin typeface="文鼎細圓"/>
                <a:ea typeface="文鼎細圓"/>
              </a:rPr>
              <a:t>所有單元須合格始獲畢業資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cc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3333cc"/>
                </a:solidFill>
                <a:latin typeface="Times New Roman"/>
                <a:ea typeface="文鼎空疊圓"/>
              </a:rPr>
              <a:t>課程架構 </a:t>
            </a:r>
            <a:r>
              <a:rPr b="1" lang="zh-TW" sz="5400" spc="-1" strike="noStrike">
                <a:solidFill>
                  <a:srgbClr val="3333cc"/>
                </a:solidFill>
                <a:latin typeface="Times New Roman"/>
                <a:ea typeface="文鼎空疊圓"/>
              </a:rPr>
              <a:t>(</a:t>
            </a:r>
            <a:r>
              <a:rPr b="1" lang="zh-TW" sz="5400" spc="-1" strike="noStrike">
                <a:solidFill>
                  <a:srgbClr val="3333cc"/>
                </a:solidFill>
                <a:latin typeface="Times New Roman"/>
                <a:ea typeface="文鼎空疊圓"/>
              </a:rPr>
              <a:t>必修</a:t>
            </a:r>
            <a:r>
              <a:rPr b="1" lang="zh-TW" sz="5400" spc="-1" strike="noStrike">
                <a:solidFill>
                  <a:srgbClr val="3333cc"/>
                </a:solidFill>
                <a:latin typeface="Times New Roman"/>
                <a:ea typeface="文鼎空疊圓"/>
              </a:rPr>
              <a:t>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838080" y="2362320"/>
            <a:ext cx="838440" cy="3809880"/>
            <a:chOff x="838080" y="2362320"/>
            <a:chExt cx="838440" cy="3809880"/>
          </a:xfrm>
        </p:grpSpPr>
        <p:grpSp>
          <p:nvGrpSpPr>
            <p:cNvPr id="51" name=""/>
            <p:cNvGrpSpPr/>
            <p:nvPr/>
          </p:nvGrpSpPr>
          <p:grpSpPr>
            <a:xfrm>
              <a:off x="838080" y="2362320"/>
              <a:ext cx="838440" cy="3429000"/>
              <a:chOff x="838080" y="2362320"/>
              <a:chExt cx="838440" cy="3429000"/>
            </a:xfrm>
          </p:grpSpPr>
          <p:sp>
            <p:nvSpPr>
              <p:cNvPr id="52" name=""/>
              <p:cNvSpPr/>
              <p:nvPr/>
            </p:nvSpPr>
            <p:spPr>
              <a:xfrm>
                <a:off x="838080" y="5410080"/>
                <a:ext cx="838440" cy="381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cc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38080" y="4648320"/>
                <a:ext cx="838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cc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38080" y="5029200"/>
                <a:ext cx="838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cc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38080" y="4267080"/>
                <a:ext cx="838440" cy="3812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cc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38080" y="3505320"/>
                <a:ext cx="838440" cy="3808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cc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8080" y="3886200"/>
                <a:ext cx="838440" cy="3808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cc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8080" y="3124080"/>
                <a:ext cx="838440" cy="3812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cc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38080" y="2362320"/>
                <a:ext cx="838440" cy="38088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cc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38080" y="2743200"/>
                <a:ext cx="838440" cy="38088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cc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838080" y="5791320"/>
              <a:ext cx="83844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3333cc"/>
                  </a:solidFill>
                  <a:latin typeface="Times New Roman"/>
                </a:rPr>
                <a:t>中文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514600" y="2362320"/>
            <a:ext cx="839880" cy="3809880"/>
            <a:chOff x="2514600" y="2362320"/>
            <a:chExt cx="839880" cy="3809880"/>
          </a:xfrm>
        </p:grpSpPr>
        <p:grpSp>
          <p:nvGrpSpPr>
            <p:cNvPr id="63" name=""/>
            <p:cNvGrpSpPr/>
            <p:nvPr/>
          </p:nvGrpSpPr>
          <p:grpSpPr>
            <a:xfrm>
              <a:off x="2514600" y="2362320"/>
              <a:ext cx="838080" cy="3429000"/>
              <a:chOff x="2514600" y="2362320"/>
              <a:chExt cx="838080" cy="3429000"/>
            </a:xfrm>
          </p:grpSpPr>
          <p:sp>
            <p:nvSpPr>
              <p:cNvPr id="64" name=""/>
              <p:cNvSpPr/>
              <p:nvPr/>
            </p:nvSpPr>
            <p:spPr>
              <a:xfrm>
                <a:off x="2514600" y="5410080"/>
                <a:ext cx="838080" cy="381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514600" y="4648320"/>
                <a:ext cx="83808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14600" y="5029200"/>
                <a:ext cx="83808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514600" y="4267080"/>
                <a:ext cx="838080" cy="3812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514600" y="3505320"/>
                <a:ext cx="838080" cy="3808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514600" y="3886200"/>
                <a:ext cx="838080" cy="3808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514600" y="3124080"/>
                <a:ext cx="838080" cy="3812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514600" y="2362320"/>
                <a:ext cx="838080" cy="38088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514600" y="2743200"/>
                <a:ext cx="838080" cy="38088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516040" y="5791320"/>
              <a:ext cx="83844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3333cc"/>
                  </a:solidFill>
                  <a:latin typeface="Times New Roman"/>
                </a:rPr>
                <a:t>數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7467480" y="3352680"/>
            <a:ext cx="990360" cy="2819160"/>
            <a:chOff x="7467480" y="3352680"/>
            <a:chExt cx="990360" cy="2819160"/>
          </a:xfrm>
        </p:grpSpPr>
        <p:grpSp>
          <p:nvGrpSpPr>
            <p:cNvPr id="75" name=""/>
            <p:cNvGrpSpPr/>
            <p:nvPr/>
          </p:nvGrpSpPr>
          <p:grpSpPr>
            <a:xfrm>
              <a:off x="7543440" y="3352680"/>
              <a:ext cx="838440" cy="2286000"/>
              <a:chOff x="7543440" y="3352680"/>
              <a:chExt cx="838440" cy="2286000"/>
            </a:xfrm>
          </p:grpSpPr>
          <p:sp>
            <p:nvSpPr>
              <p:cNvPr id="76" name=""/>
              <p:cNvSpPr/>
              <p:nvPr/>
            </p:nvSpPr>
            <p:spPr>
              <a:xfrm>
                <a:off x="7543440" y="5257800"/>
                <a:ext cx="838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43440" y="4495680"/>
                <a:ext cx="838440" cy="3812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543440" y="4876920"/>
                <a:ext cx="838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543440" y="4114800"/>
                <a:ext cx="838440" cy="3808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543440" y="3352680"/>
                <a:ext cx="838440" cy="3812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43440" y="3733920"/>
                <a:ext cx="838440" cy="38088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7467480" y="5638680"/>
              <a:ext cx="99036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3333cc"/>
                  </a:solidFill>
                  <a:latin typeface="Times New Roman"/>
                </a:rPr>
                <a:t>個人文及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3333cc"/>
                  </a:solidFill>
                  <a:latin typeface="Times New Roman"/>
                </a:rPr>
                <a:t>社會發展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791320" y="4267080"/>
            <a:ext cx="1143000" cy="1905120"/>
            <a:chOff x="5791320" y="4267080"/>
            <a:chExt cx="1143000" cy="1905120"/>
          </a:xfrm>
        </p:grpSpPr>
        <p:sp>
          <p:nvSpPr>
            <p:cNvPr id="84" name=""/>
            <p:cNvSpPr/>
            <p:nvPr/>
          </p:nvSpPr>
          <p:spPr>
            <a:xfrm>
              <a:off x="5791320" y="5791320"/>
              <a:ext cx="11430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3333cc"/>
                  </a:solidFill>
                  <a:latin typeface="Times New Roman"/>
                </a:rPr>
                <a:t>資訊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43600" y="5410080"/>
              <a:ext cx="838080" cy="38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43600" y="4648320"/>
              <a:ext cx="83808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43600" y="5029200"/>
              <a:ext cx="8380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4267080"/>
              <a:ext cx="838080" cy="381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195800" y="2362320"/>
            <a:ext cx="839880" cy="3809880"/>
            <a:chOff x="4195800" y="2362320"/>
            <a:chExt cx="839880" cy="3809880"/>
          </a:xfrm>
        </p:grpSpPr>
        <p:grpSp>
          <p:nvGrpSpPr>
            <p:cNvPr id="90" name=""/>
            <p:cNvGrpSpPr/>
            <p:nvPr/>
          </p:nvGrpSpPr>
          <p:grpSpPr>
            <a:xfrm>
              <a:off x="4195800" y="2362320"/>
              <a:ext cx="838080" cy="3429000"/>
              <a:chOff x="4195800" y="2362320"/>
              <a:chExt cx="838080" cy="3429000"/>
            </a:xfrm>
          </p:grpSpPr>
          <p:sp>
            <p:nvSpPr>
              <p:cNvPr id="91" name=""/>
              <p:cNvSpPr/>
              <p:nvPr/>
            </p:nvSpPr>
            <p:spPr>
              <a:xfrm>
                <a:off x="4195800" y="5410080"/>
                <a:ext cx="838080" cy="381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95800" y="4648320"/>
                <a:ext cx="83808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195800" y="5029200"/>
                <a:ext cx="83808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195800" y="4267080"/>
                <a:ext cx="838080" cy="3812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195800" y="3505320"/>
                <a:ext cx="838080" cy="3808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95800" y="3886200"/>
                <a:ext cx="838080" cy="3808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195800" y="3124080"/>
                <a:ext cx="838080" cy="3812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195800" y="2362320"/>
                <a:ext cx="838080" cy="38088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95800" y="2743200"/>
                <a:ext cx="838080" cy="38088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4197240" y="5791320"/>
              <a:ext cx="83844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3333cc"/>
                  </a:solidFill>
                  <a:latin typeface="Times New Roman"/>
                </a:rPr>
                <a:t>葡文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cc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Times New Roman"/>
                <a:ea typeface="文鼎空疊圓"/>
              </a:rPr>
              <a:t>課程架構 </a:t>
            </a:r>
            <a:r>
              <a:rPr b="1" lang="zh-TW" sz="5400" spc="-1" strike="noStrike">
                <a:solidFill>
                  <a:srgbClr val="ff0000"/>
                </a:solidFill>
                <a:latin typeface="Times New Roman"/>
                <a:ea typeface="文鼎空疊圓"/>
              </a:rPr>
              <a:t>(</a:t>
            </a:r>
            <a:r>
              <a:rPr b="1" lang="zh-TW" sz="5400" spc="-1" strike="noStrike">
                <a:solidFill>
                  <a:srgbClr val="ff0000"/>
                </a:solidFill>
                <a:latin typeface="Times New Roman"/>
                <a:ea typeface="文鼎空疊圓"/>
              </a:rPr>
              <a:t>選修</a:t>
            </a:r>
            <a:r>
              <a:rPr b="1" lang="zh-TW" sz="5400" spc="-1" strike="noStrike">
                <a:solidFill>
                  <a:srgbClr val="ff0000"/>
                </a:solidFill>
                <a:latin typeface="Times New Roman"/>
                <a:ea typeface="文鼎空疊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08000" y="3716280"/>
            <a:ext cx="1113120" cy="2504880"/>
            <a:chOff x="1908000" y="3716280"/>
            <a:chExt cx="1113120" cy="2504880"/>
          </a:xfrm>
        </p:grpSpPr>
        <p:grpSp>
          <p:nvGrpSpPr>
            <p:cNvPr id="103" name=""/>
            <p:cNvGrpSpPr/>
            <p:nvPr/>
          </p:nvGrpSpPr>
          <p:grpSpPr>
            <a:xfrm>
              <a:off x="1908000" y="3716280"/>
              <a:ext cx="1112760" cy="2131560"/>
              <a:chOff x="1908000" y="3716280"/>
              <a:chExt cx="1112760" cy="2131560"/>
            </a:xfrm>
          </p:grpSpPr>
          <p:sp>
            <p:nvSpPr>
              <p:cNvPr id="104" name=""/>
              <p:cNvSpPr/>
              <p:nvPr/>
            </p:nvSpPr>
            <p:spPr>
              <a:xfrm>
                <a:off x="1908000" y="5492520"/>
                <a:ext cx="1112760" cy="355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908000" y="4782240"/>
                <a:ext cx="1112760" cy="354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08000" y="5137200"/>
                <a:ext cx="1112760" cy="354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908000" y="4426560"/>
                <a:ext cx="1112760" cy="355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908000" y="3716280"/>
                <a:ext cx="1112760" cy="3549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08000" y="4071240"/>
                <a:ext cx="1112760" cy="3549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1908000" y="5848200"/>
              <a:ext cx="1113120" cy="37296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3333cc"/>
                  </a:solidFill>
                  <a:latin typeface="Times New Roman"/>
                </a:rPr>
                <a:t>地理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32000" y="6324480"/>
            <a:ext cx="3505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文鼎細圓"/>
                <a:ea typeface="文鼎中仿"/>
              </a:rPr>
              <a:t>人文及社會經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300720" y="3716280"/>
            <a:ext cx="1112760" cy="2504880"/>
            <a:chOff x="6300720" y="3716280"/>
            <a:chExt cx="1112760" cy="2504880"/>
          </a:xfrm>
        </p:grpSpPr>
        <p:grpSp>
          <p:nvGrpSpPr>
            <p:cNvPr id="113" name=""/>
            <p:cNvGrpSpPr/>
            <p:nvPr/>
          </p:nvGrpSpPr>
          <p:grpSpPr>
            <a:xfrm>
              <a:off x="6300720" y="3716280"/>
              <a:ext cx="1112400" cy="2131560"/>
              <a:chOff x="6300720" y="3716280"/>
              <a:chExt cx="1112400" cy="2131560"/>
            </a:xfrm>
          </p:grpSpPr>
          <p:sp>
            <p:nvSpPr>
              <p:cNvPr id="114" name=""/>
              <p:cNvSpPr/>
              <p:nvPr/>
            </p:nvSpPr>
            <p:spPr>
              <a:xfrm>
                <a:off x="6300720" y="5492520"/>
                <a:ext cx="1112400" cy="355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300720" y="4782240"/>
                <a:ext cx="1112400" cy="354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00720" y="5137200"/>
                <a:ext cx="1112400" cy="354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300720" y="4426560"/>
                <a:ext cx="1112400" cy="355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300720" y="3716280"/>
                <a:ext cx="1112400" cy="3549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300720" y="4071240"/>
                <a:ext cx="1112400" cy="3549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300720" y="5848200"/>
              <a:ext cx="1112760" cy="37296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3333cc"/>
                  </a:solidFill>
                  <a:latin typeface="Times New Roman"/>
                </a:rPr>
                <a:t>經濟與會計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995640" y="2565360"/>
            <a:ext cx="1112760" cy="3649680"/>
            <a:chOff x="3995640" y="2565360"/>
            <a:chExt cx="1112760" cy="3649680"/>
          </a:xfrm>
        </p:grpSpPr>
        <p:grpSp>
          <p:nvGrpSpPr>
            <p:cNvPr id="122" name=""/>
            <p:cNvGrpSpPr/>
            <p:nvPr/>
          </p:nvGrpSpPr>
          <p:grpSpPr>
            <a:xfrm>
              <a:off x="3995640" y="2565360"/>
              <a:ext cx="1111320" cy="3300120"/>
              <a:chOff x="3995640" y="2565360"/>
              <a:chExt cx="1111320" cy="3300120"/>
            </a:xfrm>
          </p:grpSpPr>
          <p:sp>
            <p:nvSpPr>
              <p:cNvPr id="123" name=""/>
              <p:cNvSpPr/>
              <p:nvPr/>
            </p:nvSpPr>
            <p:spPr>
              <a:xfrm>
                <a:off x="3995640" y="5499000"/>
                <a:ext cx="1111320" cy="36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995640" y="4765680"/>
                <a:ext cx="1111320" cy="36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995640" y="5132160"/>
                <a:ext cx="1111320" cy="36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95640" y="4398840"/>
                <a:ext cx="1111320" cy="3668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95640" y="3665520"/>
                <a:ext cx="1111320" cy="366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95640" y="4032000"/>
                <a:ext cx="1111320" cy="3668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95640" y="3298680"/>
                <a:ext cx="1111320" cy="366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95640" y="2565360"/>
                <a:ext cx="1111320" cy="366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95640" y="2931840"/>
                <a:ext cx="1111320" cy="366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3995640" y="5841720"/>
              <a:ext cx="1112760" cy="373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3333cc"/>
                  </a:solidFill>
                  <a:latin typeface="Times New Roman"/>
                </a:rPr>
                <a:t>歷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cc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Times New Roman"/>
                <a:ea typeface="文鼎空疊圓"/>
              </a:rPr>
              <a:t>課程架構 </a:t>
            </a:r>
            <a:r>
              <a:rPr b="1" lang="zh-TW" sz="5400" spc="-1" strike="noStrike">
                <a:solidFill>
                  <a:srgbClr val="ff0000"/>
                </a:solidFill>
                <a:latin typeface="Times New Roman"/>
                <a:ea typeface="文鼎空疊圓"/>
              </a:rPr>
              <a:t>(</a:t>
            </a:r>
            <a:r>
              <a:rPr b="1" lang="zh-TW" sz="5400" spc="-1" strike="noStrike">
                <a:solidFill>
                  <a:srgbClr val="ff0000"/>
                </a:solidFill>
                <a:latin typeface="Times New Roman"/>
                <a:ea typeface="文鼎空疊圓"/>
              </a:rPr>
              <a:t>選修</a:t>
            </a:r>
            <a:r>
              <a:rPr b="1" lang="zh-TW" sz="5400" spc="-1" strike="noStrike">
                <a:solidFill>
                  <a:srgbClr val="ff0000"/>
                </a:solidFill>
                <a:latin typeface="Times New Roman"/>
                <a:ea typeface="文鼎空疊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727280" y="3505320"/>
            <a:ext cx="1676160" cy="2685960"/>
            <a:chOff x="1727280" y="3505320"/>
            <a:chExt cx="1676160" cy="2685960"/>
          </a:xfrm>
        </p:grpSpPr>
        <p:grpSp>
          <p:nvGrpSpPr>
            <p:cNvPr id="135" name=""/>
            <p:cNvGrpSpPr/>
            <p:nvPr/>
          </p:nvGrpSpPr>
          <p:grpSpPr>
            <a:xfrm>
              <a:off x="1727280" y="3505320"/>
              <a:ext cx="1675800" cy="2286000"/>
              <a:chOff x="1727280" y="3505320"/>
              <a:chExt cx="1675800" cy="2286000"/>
            </a:xfrm>
          </p:grpSpPr>
          <p:sp>
            <p:nvSpPr>
              <p:cNvPr id="136" name=""/>
              <p:cNvSpPr/>
              <p:nvPr/>
            </p:nvSpPr>
            <p:spPr>
              <a:xfrm>
                <a:off x="1727280" y="5410080"/>
                <a:ext cx="1675800" cy="381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727280" y="4648320"/>
                <a:ext cx="1675800" cy="3808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27280" y="5029200"/>
                <a:ext cx="16758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27280" y="4267080"/>
                <a:ext cx="1675800" cy="3812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27280" y="3505320"/>
                <a:ext cx="1675800" cy="3808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27280" y="3886200"/>
                <a:ext cx="1675800" cy="3808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1727280" y="5791320"/>
              <a:ext cx="1676160" cy="39996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3333cc"/>
                  </a:solidFill>
                  <a:latin typeface="Times New Roman"/>
                </a:rPr>
                <a:t>英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886200" y="4267080"/>
            <a:ext cx="1676520" cy="1924200"/>
            <a:chOff x="3886200" y="4267080"/>
            <a:chExt cx="1676520" cy="1924200"/>
          </a:xfrm>
        </p:grpSpPr>
        <p:sp>
          <p:nvSpPr>
            <p:cNvPr id="144" name=""/>
            <p:cNvSpPr/>
            <p:nvPr/>
          </p:nvSpPr>
          <p:spPr>
            <a:xfrm>
              <a:off x="3886200" y="5410080"/>
              <a:ext cx="167652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86200" y="4648320"/>
              <a:ext cx="167652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86200" y="5029200"/>
              <a:ext cx="1676520" cy="380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86200" y="4267080"/>
              <a:ext cx="1676520" cy="3812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86200" y="5791320"/>
              <a:ext cx="1676520" cy="39996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3333cc"/>
                  </a:solidFill>
                  <a:latin typeface="Times New Roman"/>
                </a:rPr>
                <a:t>藝術教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045120" y="4267080"/>
            <a:ext cx="1676520" cy="1924200"/>
            <a:chOff x="6045120" y="4267080"/>
            <a:chExt cx="1676520" cy="1924200"/>
          </a:xfrm>
        </p:grpSpPr>
        <p:grpSp>
          <p:nvGrpSpPr>
            <p:cNvPr id="150" name=""/>
            <p:cNvGrpSpPr/>
            <p:nvPr/>
          </p:nvGrpSpPr>
          <p:grpSpPr>
            <a:xfrm>
              <a:off x="6045120" y="4267080"/>
              <a:ext cx="1676520" cy="1523880"/>
              <a:chOff x="6045120" y="4267080"/>
              <a:chExt cx="1676520" cy="1523880"/>
            </a:xfrm>
          </p:grpSpPr>
          <p:sp>
            <p:nvSpPr>
              <p:cNvPr id="151" name=""/>
              <p:cNvSpPr/>
              <p:nvPr/>
            </p:nvSpPr>
            <p:spPr>
              <a:xfrm>
                <a:off x="6045120" y="5410080"/>
                <a:ext cx="167652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45120" y="4647960"/>
                <a:ext cx="1676520" cy="3812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45120" y="5029200"/>
                <a:ext cx="167652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45120" y="4267080"/>
                <a:ext cx="1676520" cy="3808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6045120" y="5790960"/>
              <a:ext cx="1676520" cy="400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3333cc"/>
                  </a:solidFill>
                  <a:latin typeface="Times New Roman"/>
                </a:rPr>
                <a:t>秘書實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85800" y="2133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文鼎中仿"/>
              </a:rPr>
              <a:t>所有學員須在以下三科中選修</a:t>
            </a:r>
            <a:r>
              <a:rPr b="0" lang="zh-TW" sz="3200" spc="-1" strike="noStrike">
                <a:solidFill>
                  <a:srgbClr val="ff3300"/>
                </a:solidFill>
                <a:latin typeface="Times New Roman"/>
                <a:ea typeface="文鼎中仿"/>
              </a:rPr>
              <a:t>一</a:t>
            </a:r>
            <a:r>
              <a:rPr b="0" lang="zh-TW" sz="3200" spc="-1" strike="noStrike">
                <a:solidFill>
                  <a:srgbClr val="ff0000"/>
                </a:solidFill>
                <a:latin typeface="文鼎細圓"/>
                <a:ea typeface="文鼎中仿"/>
              </a:rPr>
              <a:t>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838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66cc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  <a:ea typeface="文鼎空疊圓"/>
              </a:rPr>
              <a:t>入讀條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772400" cy="360036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文鼎細上海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i) </a:t>
            </a:r>
            <a:r>
              <a:rPr b="0" lang="zh-TW" sz="36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年滿</a:t>
            </a:r>
            <a:r>
              <a:rPr b="0" lang="zh-TW" sz="36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18</a:t>
            </a:r>
            <a:r>
              <a:rPr b="0" lang="zh-TW" sz="36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文鼎細上海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ii)</a:t>
            </a:r>
            <a:r>
              <a:rPr b="0" lang="zh-TW" sz="36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具備完成</a:t>
            </a:r>
            <a:r>
              <a:rPr b="0" lang="zh-TW" sz="3600" spc="-1" strike="noStrike">
                <a:solidFill>
                  <a:srgbClr val="ff3300"/>
                </a:solidFill>
                <a:latin typeface="文鼎細上海宋"/>
                <a:ea typeface="文鼎細上海宋"/>
              </a:rPr>
              <a:t>初中</a:t>
            </a:r>
            <a:r>
              <a:rPr b="0" lang="zh-TW" sz="3600" spc="-1" strike="noStrike">
                <a:solidFill>
                  <a:srgbClr val="ff3300"/>
                </a:solidFill>
                <a:latin typeface="文鼎細上海宋"/>
                <a:ea typeface="文鼎細上海宋"/>
              </a:rPr>
              <a:t>教育</a:t>
            </a:r>
            <a:r>
              <a:rPr b="0" lang="zh-TW" sz="36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或以上程度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    </a:t>
            </a:r>
            <a:r>
              <a:rPr b="0" lang="zh-TW" sz="36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證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66cc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Times New Roman"/>
                <a:ea typeface="文鼎空疊圓"/>
              </a:rPr>
              <a:t>學習指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細上海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各科的每一單元均有一本</a:t>
            </a:r>
            <a:r>
              <a:rPr b="0" lang="zh-TW" sz="3200" spc="-1" strike="noStrike">
                <a:solidFill>
                  <a:srgbClr val="ff0000"/>
                </a:solidFill>
                <a:latin typeface="文鼎細上海宋"/>
                <a:ea typeface="文鼎細上海宋"/>
              </a:rPr>
              <a:t>學習指南</a:t>
            </a:r>
            <a:r>
              <a:rPr b="0" lang="zh-TW" sz="32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，學員可以據之了解</a:t>
            </a:r>
            <a:r>
              <a:rPr b="0" lang="zh-TW" sz="3200" spc="-1" strike="noStrike">
                <a:solidFill>
                  <a:srgbClr val="ff0000"/>
                </a:solidFill>
                <a:latin typeface="文鼎細上海宋"/>
                <a:ea typeface="文鼎細上海宋"/>
              </a:rPr>
              <a:t>學習目標</a:t>
            </a:r>
            <a:r>
              <a:rPr b="0" lang="zh-TW" sz="32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及</a:t>
            </a:r>
            <a:r>
              <a:rPr b="0" lang="zh-TW" sz="3200" spc="-1" strike="noStrike">
                <a:solidFill>
                  <a:srgbClr val="ff0000"/>
                </a:solidFill>
                <a:latin typeface="文鼎細上海宋"/>
                <a:ea typeface="文鼎細上海宋"/>
              </a:rPr>
              <a:t>進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細上海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內容包括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i) 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內容大綱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, 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學習目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ii) 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指定教材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, 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參考資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iii) 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建議進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66cc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8000"/>
                </a:solidFill>
                <a:latin typeface="Times New Roman"/>
                <a:ea typeface="文鼎空疊圓"/>
              </a:rPr>
              <a:t>評  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細上海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i) 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每單元均設</a:t>
            </a:r>
            <a:r>
              <a:rPr b="0" lang="zh-TW" sz="3200" spc="-1" strike="noStrike">
                <a:solidFill>
                  <a:srgbClr val="ff0000"/>
                </a:solidFill>
                <a:latin typeface="文鼎細上海宋"/>
                <a:ea typeface="文鼎細上海宋"/>
              </a:rPr>
              <a:t>單元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文鼎細上海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ii) 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考試形式 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-- 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筆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               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-- 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語言科設口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文鼎細上海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iii)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其他形式 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實習試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, 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實驗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, </a:t>
            </a:r>
            <a:r>
              <a:rPr b="0" lang="zh-TW" sz="2800" spc="-1" strike="noStrike">
                <a:solidFill>
                  <a:srgbClr val="000000"/>
                </a:solidFill>
                <a:latin typeface="文鼎細上海宋"/>
                <a:ea typeface="文鼎細上海宋"/>
              </a:rPr>
              <a:t>口頭報告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5T10:58:07Z</dcterms:created>
  <dc:creator>CGOMES</dc:creator>
  <dc:description/>
  <dc:language>en-US</dc:language>
  <cp:lastModifiedBy>Cgomes</cp:lastModifiedBy>
  <cp:lastPrinted>2002-08-26T03:56:05Z</cp:lastPrinted>
  <dcterms:modified xsi:type="dcterms:W3CDTF">2006-09-26T09:49:23Z</dcterms:modified>
  <cp:revision>93</cp:revision>
  <dc:subject/>
  <dc:title>高美士中葡中學</dc:title>
</cp:coreProperties>
</file>